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5845-EFFD-4064-A15B-532A0C8CC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D9B2-45AA-41EB-8FE5-3AA6832AE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100-0EE6-429C-8E9D-E7684AB3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943-8A7B-445E-A5E3-56973D53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75C-D085-4AF7-BCEB-A7A84E03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234-BD1A-4799-A4C8-CA5E4BC1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8DAD-16F9-4DBE-9308-8B6F6426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6D0D-8CC7-449D-AC1E-DE6C54F3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20A0-4900-4397-A692-11CB55DA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1AE3-725D-439F-ACD4-850DF0F2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E978-3C55-407B-B80C-9E242712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BCC2-0A7F-4362-A656-08E6E6A0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0A71-DFE8-4E66-BE3D-23F9962E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02C-D628-4ACD-8087-EDE0275A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4EFC-950C-454C-8ED2-F26B2E49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21DC-D7A8-47A9-8D02-F6B44C56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2DDD-C207-48F4-B838-B9751FB6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04E7-0A1B-45F8-9570-8BAA87CA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42DE-36B5-40F0-A0CB-4157E029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ADF6E-9860-4F4B-9D2C-B8C0EC9A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354AD-8EBA-452C-B256-37FB1992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6C4EB-2228-4C34-8248-44FA45CC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7258-BDD8-4B4C-8B07-99A82771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21160-7D88-42E7-A7D7-52C74F80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E82-55B7-4C8C-B531-D3C1C2A1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13D83-C4D7-4EDD-B98E-9D326E72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1F0EA-04A2-4138-9866-882E5370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A860-FDE7-41DB-9DEE-E4E20A4F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81BBA-AE0E-452F-8A0B-A8B88D92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AA140-7FFA-41F1-B8DD-CFF6065A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A96D0-6B4A-45F1-8B88-1B1E3A51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F048E-2BBF-4176-B175-98A59C4A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6924D-CB91-47A4-97FA-EA0BCD53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C23B6-A087-427B-B9BD-2F4735ED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FECEE-1E93-456D-9C4F-0E7A7E75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65A-8A59-4668-BF76-79D0C895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441EA-B823-4B78-A1DC-9C5D0D47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2C3E8-1AC7-47F3-B569-865F8BF1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864D7-6D77-4FCA-B58B-E4708522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F5E9-96CD-4365-9EF7-51C515F2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CFD64-B8D4-4C08-8379-7A8F5E5F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C2303-CF1E-4A17-8D75-8F037A2B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70F98-EFD4-4555-A833-AB4DD5A5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F30E3-792D-4913-B8E6-840F0D45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D222B-CD26-498A-9F3E-8C9F74D6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82FAE-AADA-4CD4-A441-94D70124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280-9C32-4B6B-866D-30F81814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C0EF4-3592-4EBB-9FCF-B0B5F6F5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28186-E52C-42A0-B417-1240A91D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E603C-5C5D-4298-A0E8-456352E3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5AF26-6BC5-41EF-9F28-2F7F8CB1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7D6F4-3C2F-4B15-8F5F-8EFE7B6E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93D2B-DE86-488C-9129-4597671D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5AE3B-C162-4530-8EED-4BF42470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11E60-D198-4B4A-A2B0-B2AEF801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80BF5-2EE8-45AA-B3A0-4164170E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FE877-4CC7-4961-8FA2-4F940414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357-D2D2-4E86-805B-A8E693D0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6B1D4-8071-4537-9727-2CAF39CE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D19-E7E4-4DD1-BBC4-C897C690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958-F4F9-4CC0-9C82-C2B7C670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29E-0706-40E0-9497-AFF34644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DFCE-D59C-4F2E-AC82-8F1CC8B7A01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179C-667E-48A5-A301-966B0775B58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03A9-DC54-42DA-9D3F-F3C758F950B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D899-BF03-4732-B491-F7D79090097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842F-14B3-429B-AF5A-3FCA9C449FF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i="1" lang="ro-RO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o-RO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siensis 2011 </a:t>
            </a:r>
            <a:br>
              <a:rPr sz="48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versity of Medicine and Pharmacy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u Mures </a:t>
            </a:r>
            <a:br>
              <a:rPr sz="4000"/>
            </a:br>
            <a:br>
              <a:rPr sz="4800"/>
            </a:br>
            <a:r>
              <a:rPr b="0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iological, clinical and therapeutic </a:t>
            </a:r>
            <a:r>
              <a:rPr b="0" i="1" lang="ro-RO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cts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hildren acute diarrhea</a:t>
            </a:r>
            <a:br>
              <a:rPr sz="3800"/>
            </a:br>
            <a:br>
              <a:rPr sz="3800"/>
            </a:br>
            <a:r>
              <a:rPr b="0" i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hor: stu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tanca Petronela</a:t>
            </a:r>
            <a:br>
              <a:rPr sz="2400"/>
            </a:br>
            <a:r>
              <a:rPr b="0" i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ordinato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ist. Univ. Dr. Girbovan Cristina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Results</a:t>
            </a:r>
            <a:r>
              <a:rPr b="0" lang="ro-RO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patients with acute diarrheal disease were 1 year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old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(38.6%, 475 patients), 17.2% below a year, 2 years 20%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566720" y="2743200"/>
            <a:ext cx="6569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Results</a:t>
            </a:r>
            <a:r>
              <a:rPr b="0" lang="ro-RO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240" y="8380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tiology of acute diarrhea has been established for 185 patients during the two years of study, the results are </a:t>
            </a:r>
            <a:r>
              <a:rPr b="0" lang="ro-RO" sz="2800" spc="-1" strike="noStrike">
                <a:solidFill>
                  <a:srgbClr val="000000"/>
                </a:solidFill>
                <a:latin typeface="Perpetua"/>
              </a:rPr>
              <a:t>as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ollow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5" name="Chart 5" descr=""/>
          <p:cNvPicPr/>
          <p:nvPr/>
        </p:nvPicPr>
        <p:blipFill>
          <a:blip r:embed="rId1"/>
          <a:stretch/>
        </p:blipFill>
        <p:spPr>
          <a:xfrm>
            <a:off x="1517760" y="1974960"/>
            <a:ext cx="64134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1760" y="-6858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Results</a:t>
            </a:r>
            <a:r>
              <a:rPr b="0" lang="ro-RO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8377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45% of the patients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he results of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coprocitograms performed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e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re as follow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d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990720" y="4800600"/>
          <a:ext cx="6324480" cy="1646280"/>
        </p:xfrm>
        <a:graphic>
          <a:graphicData uri="http://schemas.openxmlformats.org/drawingml/2006/table">
            <a:tbl>
              <a:tblPr/>
              <a:tblGrid>
                <a:gridCol w="3449520"/>
                <a:gridCol w="2874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Bacteria prez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Digestive scrap, absent W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BCs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ea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9" name="Chart 5" descr=""/>
          <p:cNvPicPr/>
          <p:nvPr/>
        </p:nvPicPr>
        <p:blipFill>
          <a:blip r:embed="rId1"/>
          <a:stretch/>
        </p:blipFill>
        <p:spPr>
          <a:xfrm>
            <a:off x="755640" y="1292400"/>
            <a:ext cx="869940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Results</a:t>
            </a:r>
            <a:r>
              <a:rPr b="0" lang="ro-RO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Depending on the syndrome of acute dehydration associated patient group has the following structure: I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 grad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cute dehydration syndrome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 13.5%, II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d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 grade 60.5%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nd the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 III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d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 grad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26%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Chart 3" descr=""/>
          <p:cNvPicPr/>
          <p:nvPr/>
        </p:nvPicPr>
        <p:blipFill>
          <a:blip r:embed="rId1"/>
          <a:stretch/>
        </p:blipFill>
        <p:spPr>
          <a:xfrm>
            <a:off x="2968560" y="2664000"/>
            <a:ext cx="572472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Results</a:t>
            </a:r>
            <a:r>
              <a:rPr b="0" lang="ro-RO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tribution of patients according to hemoglobin values​​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5" name="Chart 4" descr=""/>
          <p:cNvPicPr/>
          <p:nvPr/>
        </p:nvPicPr>
        <p:blipFill>
          <a:blip r:embed="rId1"/>
          <a:stretch/>
        </p:blipFill>
        <p:spPr>
          <a:xfrm>
            <a:off x="1444680" y="2432160"/>
            <a:ext cx="6029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Results</a:t>
            </a:r>
            <a:r>
              <a:rPr b="0" lang="ro-RO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352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tients enrolled in the study had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the following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disea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asitic diseases associated with acute diarrhea were as followed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371600" y="2819520"/>
          <a:ext cx="6095880" cy="11127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P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neum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ute streptococcal ang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testinal para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1371600" y="4800600"/>
          <a:ext cx="6248520" cy="1112760"/>
        </p:xfrm>
        <a:graphic>
          <a:graphicData uri="http://schemas.openxmlformats.org/drawingml/2006/table">
            <a:tbl>
              <a:tblPr/>
              <a:tblGrid>
                <a:gridCol w="3124080"/>
                <a:gridCol w="3124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Giardia lamb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menolepis na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caris lumbricoid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Results</a:t>
            </a:r>
            <a:r>
              <a:rPr b="0" lang="ro-RO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380880"/>
            <a:ext cx="8991720" cy="70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Antibiogram for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E. coli strains isolated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from coprocultur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008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 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00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2" name="Chart 5" descr=""/>
          <p:cNvPicPr/>
          <p:nvPr/>
        </p:nvPicPr>
        <p:blipFill>
          <a:blip r:embed="rId1"/>
          <a:stretch/>
        </p:blipFill>
        <p:spPr>
          <a:xfrm>
            <a:off x="3273480" y="146160"/>
            <a:ext cx="5724360" cy="3286080"/>
          </a:xfrm>
          <a:prstGeom prst="rect">
            <a:avLst/>
          </a:prstGeom>
          <a:ln w="0">
            <a:noFill/>
          </a:ln>
        </p:spPr>
      </p:pic>
      <p:pic>
        <p:nvPicPr>
          <p:cNvPr id="283" name="Chart 6" descr=""/>
          <p:cNvPicPr/>
          <p:nvPr/>
        </p:nvPicPr>
        <p:blipFill>
          <a:blip r:embed="rId2"/>
          <a:stretch/>
        </p:blipFill>
        <p:spPr>
          <a:xfrm>
            <a:off x="146160" y="3121200"/>
            <a:ext cx="52671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Conclusions</a:t>
            </a:r>
            <a:r>
              <a:rPr b="0" lang="ro-RO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Gastroenteritis caused by rotavirus remains the most common infant disease, followed by bacterial etiology caused by E. coli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ti-rotavirus vaccination is required as a prophylactic measure to decrease the incidence of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rotavirus infec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Conclusions</a:t>
            </a:r>
            <a:r>
              <a:rPr b="0" lang="ro-RO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Germs isolated from coprocultures kept the sensitivity to regular administered antibiotic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Of intestinal parasitoses the association with Giardia lamblia has been reported in the study group in a high percent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62120" y="914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9" name="Rectangle 4" descr=""/>
          <p:cNvPicPr/>
          <p:nvPr/>
        </p:nvPicPr>
        <p:blipFill>
          <a:blip r:embed="rId1"/>
          <a:stretch/>
        </p:blipFill>
        <p:spPr>
          <a:xfrm>
            <a:off x="1243080" y="1852560"/>
            <a:ext cx="67485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Introduction</a:t>
            </a:r>
            <a:r>
              <a:rPr b="0" lang="ro-RO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48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rrheal disease is one of the most common problems encountered in clinical practice in children in the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fectious Diarrhea affects all ages, aggravating pre-existing pathological changes of the bod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The purpose of the study</a:t>
            </a:r>
            <a:r>
              <a:rPr b="0" lang="ro-RO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380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ro-RO" sz="2800" spc="-1" strike="noStrike">
                <a:solidFill>
                  <a:srgbClr val="000000"/>
                </a:solidFill>
                <a:latin typeface="Perpetua"/>
              </a:rPr>
              <a:t>The p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rpose of this study was to monitor etiological, clinical and therapeutic</a:t>
            </a:r>
            <a:r>
              <a:rPr b="0" lang="ro-RO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spects</a:t>
            </a:r>
            <a:r>
              <a:rPr b="0" lang="ro-RO" sz="28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cute diarrheal disease in children aged one month to 15 years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Method and material</a:t>
            </a:r>
            <a:r>
              <a:rPr b="0" lang="ro-RO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performed a retrospective study on a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group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1229 children admitted in the Infectious Diseases Clinic of Targu Mures in the period January 1, 2008 to December 31, 2009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ve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 analyzed the incidence of diarrheal disease according to etiology, the degree of dehydration, associated diseases and the chemosensibility of the etiologic agent isolated from coprocultur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Method and material</a:t>
            </a:r>
            <a:r>
              <a:rPr b="0" lang="ro-RO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laboratory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is the following determinations were performed: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coproculture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coprocitogram, latex agglutination test 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Rotavirus</a:t>
            </a: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 and coproparasitologic testing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Results</a:t>
            </a:r>
            <a:r>
              <a:rPr b="0" lang="ro-RO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group was divided according to sex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 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133720" y="5029200"/>
          <a:ext cx="4876560" cy="1523880"/>
        </p:xfrm>
        <a:graphic>
          <a:graphicData uri="http://schemas.openxmlformats.org/drawingml/2006/table">
            <a:tbl>
              <a:tblPr/>
              <a:tblGrid>
                <a:gridCol w="1652400"/>
                <a:gridCol w="1689120"/>
                <a:gridCol w="1535040"/>
              </a:tblGrid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r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Chart 5" descr=""/>
          <p:cNvPicPr/>
          <p:nvPr/>
        </p:nvPicPr>
        <p:blipFill>
          <a:blip r:embed="rId1"/>
          <a:stretch/>
        </p:blipFill>
        <p:spPr>
          <a:xfrm>
            <a:off x="1517760" y="1670040"/>
            <a:ext cx="60292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o-RO" sz="3600" spc="-1" strike="noStrike" u="sng">
                <a:solidFill>
                  <a:srgbClr val="1f497d"/>
                </a:solidFill>
                <a:uFillTx/>
                <a:latin typeface="Franklin Gothic Book"/>
              </a:rPr>
              <a:t>Results</a:t>
            </a:r>
            <a:r>
              <a:rPr b="0" lang="ro-RO" sz="36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49" name="Table 4" descr=""/>
          <p:cNvPicPr/>
          <p:nvPr/>
        </p:nvPicPr>
        <p:blipFill>
          <a:blip r:embed="rId1"/>
          <a:stretch/>
        </p:blipFill>
        <p:spPr>
          <a:xfrm>
            <a:off x="2114640" y="5035680"/>
            <a:ext cx="4743360" cy="1689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152280" y="990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istribution by area of origi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Chart 15" descr=""/>
          <p:cNvPicPr/>
          <p:nvPr/>
        </p:nvPicPr>
        <p:blipFill>
          <a:blip r:embed="rId2"/>
          <a:stretch/>
        </p:blipFill>
        <p:spPr>
          <a:xfrm>
            <a:off x="907920" y="1292400"/>
            <a:ext cx="6943680" cy="39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Re</a:t>
            </a: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s</a:t>
            </a: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ult</a:t>
            </a: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s</a:t>
            </a: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:</a:t>
            </a:r>
            <a:br>
              <a:rPr sz="2000"/>
            </a:b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istribution by socio-economic statu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981080" y="4800600"/>
          <a:ext cx="4953240" cy="1828800"/>
        </p:xfrm>
        <a:graphic>
          <a:graphicData uri="http://schemas.openxmlformats.org/drawingml/2006/table">
            <a:tbl>
              <a:tblPr/>
              <a:tblGrid>
                <a:gridCol w="1671840"/>
                <a:gridCol w="2149560"/>
                <a:gridCol w="1131840"/>
              </a:tblGrid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ber of pat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m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5" name="Chart 6" descr=""/>
          <p:cNvPicPr/>
          <p:nvPr/>
        </p:nvPicPr>
        <p:blipFill>
          <a:blip r:embed="rId1"/>
          <a:stretch/>
        </p:blipFill>
        <p:spPr>
          <a:xfrm>
            <a:off x="1670040" y="1517760"/>
            <a:ext cx="62611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Results</a:t>
            </a:r>
            <a:r>
              <a:rPr b="0" lang="ro-RO" sz="40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14475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Usually 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arrheal diseas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a seasonal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cute disease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edominantly in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mmer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nths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oup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 w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a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v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seen 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a larg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numbers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of c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es in the months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ptember and Octobe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0" lang="ro-RO" sz="2400" spc="-1" strike="noStrike">
                <a:solidFill>
                  <a:srgbClr val="000000"/>
                </a:solidFill>
                <a:latin typeface="Perpetua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Chart 5" descr=""/>
          <p:cNvPicPr/>
          <p:nvPr/>
        </p:nvPicPr>
        <p:blipFill>
          <a:blip r:embed="rId1"/>
          <a:stretch/>
        </p:blipFill>
        <p:spPr>
          <a:xfrm>
            <a:off x="3882960" y="225360"/>
            <a:ext cx="4883040" cy="2828880"/>
          </a:xfrm>
          <a:prstGeom prst="rect">
            <a:avLst/>
          </a:prstGeom>
          <a:ln w="0">
            <a:noFill/>
          </a:ln>
        </p:spPr>
      </p:pic>
      <p:pic>
        <p:nvPicPr>
          <p:cNvPr id="259" name="Chart 6" descr=""/>
          <p:cNvPicPr/>
          <p:nvPr/>
        </p:nvPicPr>
        <p:blipFill>
          <a:blip r:embed="rId2"/>
          <a:stretch/>
        </p:blipFill>
        <p:spPr>
          <a:xfrm>
            <a:off x="3956040" y="3498840"/>
            <a:ext cx="46576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hub&amp;hib</dc:creator>
  <dc:description/>
  <dc:language>en-US</dc:language>
  <cp:lastModifiedBy>Petronela Stanca</cp:lastModifiedBy>
  <dcterms:modified xsi:type="dcterms:W3CDTF">2011-03-31T18:12:30Z</dcterms:modified>
  <cp:revision>98</cp:revision>
  <dc:subject/>
  <dc:title>Aspecte etiologice, clinice si terapeutice in bolile diareice acute la copii</dc:title>
</cp:coreProperties>
</file>