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40B-9EB4-4C43-B799-BC8440C3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C2CC-5301-43B0-B498-FF059667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2160-44FC-410B-8E30-9CB835C0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E9AE-B4D2-43CF-BF15-1950C10F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D884-0D4D-4BBB-8452-8C23E261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9B12-5425-48D0-825A-F8F57EB7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8414-BDF7-43F9-99A7-2ECC0912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1FA8-DB40-4A3A-9681-D1A1D334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FEBA-F00F-47F1-AEB9-96934800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E3CD-4382-4940-832B-22A82FAA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9440-4A71-4B59-AC5D-F909881A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B46E-69EE-4D8B-BBA5-DC80CE4D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88F3-907B-4440-8DFF-560A9814B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gla usamv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68640" cy="10080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1295280" y="333360"/>
            <a:ext cx="613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mic Sans MS"/>
              </a:rPr>
              <a:t>Universitatea de </a:t>
            </a:r>
            <a:r>
              <a:rPr b="1" lang="ro-RO" sz="1600" spc="-1" strike="noStrike">
                <a:solidFill>
                  <a:srgbClr val="ffff99"/>
                </a:solidFill>
                <a:latin typeface="Comic Sans MS"/>
              </a:rPr>
              <a:t>Ştiinţe Agricole şi Medicină Veterinară</a:t>
            </a:r>
            <a:r>
              <a:rPr b="1" lang="en-US" sz="1600" spc="-1" strike="noStrike">
                <a:solidFill>
                  <a:srgbClr val="ffff99"/>
                </a:solidFill>
                <a:latin typeface="Comic Sans MS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mic Sans MS"/>
              </a:rPr>
              <a:t>Universitatea de Medicina si Farmacie “Iuliu Hatieganu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mic Sans MS"/>
              </a:rPr>
              <a:t>Cluj Napo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403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Comic Sans MS"/>
              </a:rPr>
              <a:t>Scientific coordinat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Comic Sans MS"/>
              </a:rPr>
              <a:t>Prof. Dr. Ognean Laurenţ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Comic Sans MS"/>
              </a:rPr>
              <a:t>Lecturer Dr. Cernea Laura Cris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Comic Sans MS"/>
              </a:rPr>
              <a:t>Lecturer Dr. Cernea Mih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5891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INFLUENCE OF 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OCIMUM BASILICUM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EXTRA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N SOME HEMATOLOGICAL PARAME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F LABORATORY M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72360" y="4267080"/>
            <a:ext cx="25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Auth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Muresan Elena 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Navala Laura Iu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mic Sans MS"/>
              </a:rPr>
              <a:t>Bercaru Alexan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mic Sans MS"/>
              </a:rPr>
              <a:t>Nica Cezar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420040" y="61340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391520" y="228600"/>
            <a:ext cx="16761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486400" y="304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1066680"/>
            <a:ext cx="2361960" cy="520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Comparing the number of lymphoc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5638680"/>
            <a:ext cx="2514600" cy="580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Comparing the number of monoc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880" y="380880"/>
          <a:ext cx="5878800" cy="3200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>
                    <a:alphaModFix amt="90000"/>
                  </a:blip>
                  <a:stretch/>
                </p:blipFill>
                <p:spPr>
                  <a:xfrm>
                    <a:off x="380880" y="380880"/>
                    <a:ext cx="58788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819520" y="3809880"/>
          <a:ext cx="6041880" cy="2760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5">
                    <a:alphaModFix amt="90000"/>
                  </a:blip>
                  <a:stretch/>
                </p:blipFill>
                <p:spPr>
                  <a:xfrm>
                    <a:off x="2819520" y="3809880"/>
                    <a:ext cx="6041880" cy="27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666880" y="1905120"/>
            <a:ext cx="0" cy="3045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486400" y="304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914400"/>
            <a:ext cx="701028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mparing the body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96880" y="1633680"/>
          <a:ext cx="7550280" cy="516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>
                    <a:alphaModFix amt="90000"/>
                  </a:blip>
                  <a:stretch/>
                </p:blipFill>
                <p:spPr>
                  <a:xfrm>
                    <a:off x="596880" y="1633680"/>
                    <a:ext cx="7550280" cy="51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 flipV="1">
            <a:off x="2057400" y="2819520"/>
            <a:ext cx="1143000" cy="7617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400800" y="380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990720"/>
            <a:ext cx="8610480" cy="5580360"/>
          </a:xfrm>
          <a:prstGeom prst="rect">
            <a:avLst/>
          </a:prstGeom>
          <a:solidFill>
            <a:srgbClr val="333399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The oral treatment with </a:t>
            </a:r>
            <a:r>
              <a:rPr b="0" i="1" lang="en-US" sz="2000" spc="-1" strike="noStrike">
                <a:solidFill>
                  <a:srgbClr val="ffff99"/>
                </a:solidFill>
                <a:latin typeface="Comic Sans MS"/>
              </a:rPr>
              <a:t>Ocimum basilicum</a:t>
            </a: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, (5µl/animal/day/ for 5 days ,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was well tolerated</a:t>
            </a: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Looking at the physiological hemostasis, in comparison to the placebo group,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the number of platelets was sma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In the Ocimum basilicum group,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we noticed the  increase of the number of  leucocytes, with neutrophilia, eosinophilia and lymphopenia</a:t>
            </a: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The body growth within the Ocimum basilicum was statistically significant </a:t>
            </a: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(p&lt;0,0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7432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1371600"/>
            <a:ext cx="8686800" cy="5469120"/>
          </a:xfrm>
          <a:prstGeom prst="rect">
            <a:avLst/>
          </a:prstGeom>
          <a:solidFill>
            <a:srgbClr val="3333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mic Sans MS"/>
              </a:rPr>
              <a:t>The extract of Ocimum Basilicum is rich in eteric oils,carotene,phytoncide, vitamin C and A, iron, calcium, magnesium. A series of laboratory studies have revealed that one important characteristics of the Ocimum basilicum extract is the high quantity of vitamin K that it contains, in almost 60 % of it’s com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600200"/>
            <a:ext cx="8076960" cy="4080240"/>
          </a:xfrm>
          <a:prstGeom prst="rect">
            <a:avLst/>
          </a:prstGeom>
          <a:solidFill>
            <a:srgbClr val="3333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mic Sans MS"/>
              </a:rPr>
              <a:t>The purpose of the study : to assess the influence of the Ocimum basilicum extract on the health status of laboratory mice, by investiga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Comic Sans MS"/>
              </a:rPr>
              <a:t>-physiological hemosta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Comic Sans MS"/>
              </a:rPr>
              <a:t>-blood parame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Comic Sans MS"/>
              </a:rPr>
              <a:t>-body develop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943600" y="3049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Comic Sans MS"/>
              </a:rPr>
              <a:t>Mat</a:t>
            </a: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e</a:t>
            </a:r>
            <a:r>
              <a:rPr b="1" lang="ro-RO" sz="1800" spc="-1" strike="noStrike">
                <a:solidFill>
                  <a:srgbClr val="000066"/>
                </a:solidFill>
                <a:latin typeface="Comic Sans MS"/>
              </a:rPr>
              <a:t>rial</a:t>
            </a: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1" lang="ro-RO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and</a:t>
            </a:r>
            <a:r>
              <a:rPr b="1" lang="ro-RO" sz="1800" spc="-1" strike="noStrike">
                <a:solidFill>
                  <a:srgbClr val="000066"/>
                </a:solidFill>
                <a:latin typeface="Comic Sans MS"/>
              </a:rPr>
              <a:t> met</a:t>
            </a: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h</a:t>
            </a:r>
            <a:r>
              <a:rPr b="1" lang="ro-RO" sz="1800" spc="-1" strike="noStrike">
                <a:solidFill>
                  <a:srgbClr val="000066"/>
                </a:solidFill>
                <a:latin typeface="Comic Sans MS"/>
              </a:rPr>
              <a:t>od</a:t>
            </a: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1" lang="ro-RO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4280" y="1050840"/>
            <a:ext cx="1718280" cy="1739880"/>
          </a:xfrm>
          <a:prstGeom prst="rect">
            <a:avLst/>
          </a:prstGeom>
          <a:solidFill>
            <a:srgbClr val="3333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Comic Sans MS"/>
              </a:rPr>
              <a:t>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99"/>
                </a:solidFill>
                <a:latin typeface="Comic Sans MS"/>
              </a:rPr>
              <a:t>36 MALE M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mic Sans MS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3581280"/>
          <a:ext cx="8229600" cy="2535480"/>
        </p:xfrm>
        <a:graphic>
          <a:graphicData uri="http://schemas.openxmlformats.org/drawingml/2006/table">
            <a:tbl>
              <a:tblPr/>
              <a:tblGrid>
                <a:gridCol w="2320920"/>
                <a:gridCol w="1521000"/>
                <a:gridCol w="2179440"/>
                <a:gridCol w="2208240"/>
              </a:tblGrid>
              <a:tr h="409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N0. SU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RAL ADMINI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DO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lacebo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Distilled wa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25 µl/animal/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02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roup receiving </a:t>
                      </a:r>
                      <a:r>
                        <a:rPr b="0" i="1" lang="es-ES_tradnl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cimum basilic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cimum basilicum </a:t>
                      </a: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xtra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5 µl/animal/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dilution 1:25 125µl/animal/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248520" y="3049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Comic Sans MS"/>
              </a:rPr>
              <a:t>Material</a:t>
            </a: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1" lang="ro-RO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and</a:t>
            </a:r>
            <a:r>
              <a:rPr b="1" lang="ro-RO" sz="1800" spc="-1" strike="noStrike">
                <a:solidFill>
                  <a:srgbClr val="000066"/>
                </a:solidFill>
                <a:latin typeface="Comic Sans MS"/>
              </a:rPr>
              <a:t> met</a:t>
            </a: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h</a:t>
            </a:r>
            <a:r>
              <a:rPr b="1" lang="ro-RO" sz="1800" spc="-1" strike="noStrike">
                <a:solidFill>
                  <a:srgbClr val="000066"/>
                </a:solidFill>
                <a:latin typeface="Comic Sans MS"/>
              </a:rPr>
              <a:t>od</a:t>
            </a: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1" lang="ro-RO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5840" y="990000"/>
            <a:ext cx="3800160" cy="368280"/>
          </a:xfrm>
          <a:prstGeom prst="rect">
            <a:avLst/>
          </a:prstGeom>
          <a:solidFill>
            <a:srgbClr val="3333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mic Sans MS"/>
              </a:rPr>
              <a:t>PROTOCOL OF THE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2362320"/>
          <a:ext cx="8229600" cy="4014720"/>
        </p:xfrm>
        <a:graphic>
          <a:graphicData uri="http://schemas.openxmlformats.org/drawingml/2006/table">
            <a:tbl>
              <a:tblPr/>
              <a:tblGrid>
                <a:gridCol w="1195560"/>
                <a:gridCol w="7034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CTIVI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88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Dividing the animals into two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Weighing the  anim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Administrating the extract of </a:t>
                      </a:r>
                      <a:r>
                        <a:rPr b="0" i="1" lang="es-ES_tradnl" sz="18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Ocimum basilicum </a:t>
                      </a:r>
                      <a:r>
                        <a:rPr b="0" lang="es-ES_tradnl" sz="18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treated grou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Administrating distilled water (placebo group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Weighing the anim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Obtaining biological s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19920" y="304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66"/>
                </a:solidFill>
                <a:latin typeface="Comic Sans MS"/>
              </a:rPr>
              <a:t>Material</a:t>
            </a:r>
            <a:r>
              <a:rPr b="1" lang="en-US" sz="1800" spc="-1" strike="noStrike">
                <a:solidFill>
                  <a:srgbClr val="003366"/>
                </a:solidFill>
                <a:latin typeface="Comic Sans MS"/>
              </a:rPr>
              <a:t>s</a:t>
            </a:r>
            <a:r>
              <a:rPr b="1" lang="ro-RO" sz="18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Comic Sans MS"/>
              </a:rPr>
              <a:t>and</a:t>
            </a:r>
            <a:r>
              <a:rPr b="1" lang="ro-RO" sz="1800" spc="-1" strike="noStrike">
                <a:solidFill>
                  <a:srgbClr val="003366"/>
                </a:solidFill>
                <a:latin typeface="Comic Sans MS"/>
              </a:rPr>
              <a:t> met</a:t>
            </a:r>
            <a:r>
              <a:rPr b="1" lang="en-US" sz="1800" spc="-1" strike="noStrike">
                <a:solidFill>
                  <a:srgbClr val="003366"/>
                </a:solidFill>
                <a:latin typeface="Comic Sans MS"/>
              </a:rPr>
              <a:t>h</a:t>
            </a:r>
            <a:r>
              <a:rPr b="1" lang="ro-RO" sz="1800" spc="-1" strike="noStrike">
                <a:solidFill>
                  <a:srgbClr val="003366"/>
                </a:solidFill>
                <a:latin typeface="Comic Sans MS"/>
              </a:rPr>
              <a:t>od</a:t>
            </a:r>
            <a:r>
              <a:rPr b="1" lang="en-US" sz="1800" spc="-1" strike="noStrike">
                <a:solidFill>
                  <a:srgbClr val="003366"/>
                </a:solidFill>
                <a:latin typeface="Comic Sans MS"/>
              </a:rPr>
              <a:t>s</a:t>
            </a:r>
            <a:r>
              <a:rPr b="1" lang="ro-RO" sz="18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2742840"/>
            <a:ext cx="4038480" cy="3352680"/>
          </a:xfrm>
          <a:prstGeom prst="rect">
            <a:avLst/>
          </a:prstGeom>
          <a:solidFill>
            <a:srgbClr val="333399">
              <a:alpha val="9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HEMATOLOGICAL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no. of red blood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hemoglo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no. of leucoc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leucocytar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00600" y="1295280"/>
            <a:ext cx="4038480" cy="4525920"/>
          </a:xfrm>
          <a:prstGeom prst="rect">
            <a:avLst/>
          </a:prstGeom>
          <a:solidFill>
            <a:srgbClr val="333399">
              <a:alpha val="9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STATISTICS (ANO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Comic Sans MS"/>
              </a:rPr>
              <a:t>Medium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Comic Sans MS"/>
              </a:rPr>
              <a:t>Standard dev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Comic Sans MS"/>
              </a:rPr>
              <a:t>Standard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Comic Sans MS"/>
              </a:rPr>
              <a:t>Minimal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Comic Sans MS"/>
              </a:rPr>
              <a:t>Maximal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Comic Sans MS"/>
              </a:rPr>
              <a:t>Limits of CI 9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Comic Sans MS"/>
              </a:rPr>
              <a:t>“</a:t>
            </a:r>
            <a:r>
              <a:rPr b="0" lang="en-US" sz="1600" spc="-1" strike="noStrike">
                <a:solidFill>
                  <a:srgbClr val="ffff99"/>
                </a:solidFill>
                <a:latin typeface="Comic Sans MS"/>
              </a:rPr>
              <a:t>p”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762120"/>
            <a:ext cx="4496040" cy="1752480"/>
          </a:xfrm>
          <a:prstGeom prst="rect">
            <a:avLst/>
          </a:prstGeom>
          <a:solidFill>
            <a:srgbClr val="3333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PSHYSIOLOGICAL HEMOST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no. of plate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coagul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486400" y="304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1523880"/>
          <a:ext cx="7646760" cy="5029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>
                    <a:alphaModFix amt="90000"/>
                  </a:blip>
                  <a:stretch/>
                </p:blipFill>
                <p:spPr>
                  <a:xfrm>
                    <a:off x="762120" y="1523880"/>
                    <a:ext cx="76467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62120" y="838080"/>
            <a:ext cx="7467480" cy="398880"/>
          </a:xfrm>
          <a:prstGeom prst="rect">
            <a:avLst/>
          </a:prstGeom>
          <a:solidFill>
            <a:srgbClr val="3333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mic Sans MS"/>
              </a:rPr>
              <a:t>Comparing the parameters of physiological hemost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1752480"/>
            <a:ext cx="152280" cy="152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62520" y="3581280"/>
            <a:ext cx="0" cy="3812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486400" y="304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1066680"/>
            <a:ext cx="2361960" cy="1465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mic Sans MS"/>
              </a:rPr>
              <a:t>Comparing the number of red blood cells and the level of hemoglo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4952880"/>
            <a:ext cx="2666880" cy="580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mic Sans MS"/>
              </a:rPr>
              <a:t>Comparing the number of leucoc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8600" y="461880"/>
          <a:ext cx="5815080" cy="3119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>
                    <a:alphaModFix amt="90000"/>
                  </a:blip>
                  <a:stretch/>
                </p:blipFill>
                <p:spPr>
                  <a:xfrm>
                    <a:off x="228600" y="461880"/>
                    <a:ext cx="581508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276720" y="3657600"/>
          <a:ext cx="5510160" cy="2906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5">
                    <a:alphaModFix amt="90000"/>
                  </a:blip>
                  <a:stretch/>
                </p:blipFill>
                <p:spPr>
                  <a:xfrm>
                    <a:off x="3276720" y="3657600"/>
                    <a:ext cx="5510160" cy="29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809880" y="990720"/>
            <a:ext cx="152640" cy="75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486400" y="5105160"/>
            <a:ext cx="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486400" y="304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1066680"/>
            <a:ext cx="2438280" cy="824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mic Sans MS"/>
              </a:rPr>
              <a:t>Comparing the number of neutroph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5867280"/>
            <a:ext cx="2438280" cy="824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mic Sans MS"/>
              </a:rPr>
              <a:t>Comparing the number of eosinoph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80880" y="380880"/>
          <a:ext cx="5803920" cy="3429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>
                    <a:alphaModFix amt="90000"/>
                  </a:blip>
                  <a:stretch/>
                </p:blipFill>
                <p:spPr>
                  <a:xfrm>
                    <a:off x="380880" y="380880"/>
                    <a:ext cx="58039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819520" y="3886200"/>
          <a:ext cx="5790960" cy="26766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>
                    <a:alphaModFix amt="90000"/>
                  </a:blip>
                  <a:stretch/>
                </p:blipFill>
                <p:spPr>
                  <a:xfrm>
                    <a:off x="2819520" y="3886200"/>
                    <a:ext cx="579096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 flipV="1">
            <a:off x="2666880" y="1294920"/>
            <a:ext cx="0" cy="3049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257800" y="4952520"/>
            <a:ext cx="0" cy="3049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09:03:57Z</dcterms:created>
  <dc:creator>PNII 2007 Capacitati</dc:creator>
  <dc:description/>
  <dc:language>en-US</dc:language>
  <cp:lastModifiedBy>Administrator</cp:lastModifiedBy>
  <dcterms:modified xsi:type="dcterms:W3CDTF">2011-04-05T15:35:08Z</dcterms:modified>
  <cp:revision>39</cp:revision>
  <dc:subject/>
  <dc:title>Slide 1</dc:title>
</cp:coreProperties>
</file>