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66F-0F93-4E05-A990-F3824A92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71E-E66A-4697-BCEB-4261B14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F7B-A6BB-4773-A086-2D7756DB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7DA-8438-49CE-92D6-E3241FA1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883F-0545-4544-8D2C-491672DE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5355-46BD-4447-A980-40E7E94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1962-3BF3-450B-A267-06F952C7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4EE-882C-4A03-A151-A8D447F5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3FB1-F9CD-4D5A-A2FF-E291CAF6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D198-41EE-45AB-A4A9-FC067774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580F-3FEB-4F50-B19A-D812A005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018-7BE5-4545-A10F-421801DE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A25F-F7EA-4FFB-BF29-D5C374D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057-CFAA-4191-A6AD-C782CE0C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B54-0E3D-44E0-9AE0-7D7BFE3A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6CC0-7181-45D6-BE7B-1327ABAB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0EC1-5641-4560-BFE3-700311D8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296-3005-4A33-B1DF-49E4DFA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FC-F60F-4477-B4F8-C3A60DA3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607-DAFF-4F6F-84E4-F751CEF9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813-E172-45CA-93D0-58A0896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B4E-2B8B-48E8-8693-2216C3B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E19-98B6-41C7-B77C-DE2D8E3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595-334F-4FD5-88DD-B0B2CF4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8187-1891-46B4-91C2-8E384EC42698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4DA-2110-4ACE-A5F3-66AA78923956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The influence of weekend admissions on mortality rate in ICU</a:t>
            </a: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. Balan Sevastita Eug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otoiu Ruxandra, MD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erial and metho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ekend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spective,01.01.2010 – 31.12.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ICU, University Emergency Hospital Targu M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6 pts / 18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, gender, APACHE II, SOFA,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 873/15.12.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erial and metho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ve epidem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a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Fisher exact test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O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dds rati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var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way ANO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phPad Prism 5.0,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CU epidemi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719360"/>
          <a:ext cx="8229600" cy="466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 bed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ncy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127.42/72.1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Average LO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5.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hospital ICU morta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verage LOS nonsurvivo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.9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1371600"/>
          <a:ext cx="8381880" cy="5407200"/>
        </p:xfrm>
        <a:graphic>
          <a:graphicData uri="http://schemas.openxmlformats.org/drawingml/2006/table">
            <a:tbl>
              <a:tblPr/>
              <a:tblGrid>
                <a:gridCol w="2666880"/>
                <a:gridCol w="2095560"/>
                <a:gridCol w="2095560"/>
                <a:gridCol w="152388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en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 M/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1/51.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22/52.7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(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gical (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cheduled (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.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  <a:ea typeface="Arial"/>
                        </a:rPr>
                        <a:t>&lt;0.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mergency (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1.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  <a:ea typeface="Arial"/>
                        </a:rPr>
                        <a:t>&lt;0.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ACHE II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6.0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.6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  <a:ea typeface="Arial"/>
                        </a:rPr>
                        <a:t>&lt;0.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OF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.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.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0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.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.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  <a:ea typeface="Arial"/>
                        </a:rPr>
                        <a:t>&lt;0.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.9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.7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71600" y="2286000"/>
          <a:ext cx="6324480" cy="32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632448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600200" y="4191120"/>
            <a:ext cx="5791320" cy="304560"/>
          </a:xfrm>
          <a:prstGeom prst="flowChartAlternateProcess">
            <a:avLst/>
          </a:prstGeom>
          <a:solidFill>
            <a:srgbClr val="cc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800600"/>
            <a:ext cx="5791320" cy="304920"/>
          </a:xfrm>
          <a:prstGeom prst="flowChartAlternateProcess">
            <a:avLst/>
          </a:prstGeom>
          <a:solidFill>
            <a:srgbClr val="cc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2438280"/>
            <a:ext cx="5791320" cy="304920"/>
          </a:xfrm>
          <a:prstGeom prst="flowChartAlternateProcess">
            <a:avLst/>
          </a:prstGeom>
          <a:solidFill>
            <a:srgbClr val="cc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1022400"/>
          <a:ext cx="731520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22400"/>
                    <a:ext cx="73152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06668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Fitted for sev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CU is not a deadly playground in the weeke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sonal variations patterns and annual trends are to be studied in order to make a definitive statement or change the on call schedul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282600"/>
            <a:ext cx="71625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04T09:18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