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E48-AAD5-4B3D-9091-94933BBD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9DD-9238-425A-84FA-2DF38F25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466-2001-4AE3-BAA7-B5FC74B5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183-9EB9-4026-9E67-F734FFFA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D73-E7B7-40E6-A385-04EA5176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9A1-4617-4C34-AFC8-B2AC0FDC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176-A4DD-41A0-A969-0EFEF25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802-31C0-4F1F-ADEB-9BBC8F03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6F9-E007-4292-B9DF-CB4B2ED2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BAA-6DD6-40C0-A0E0-55EAAC1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198-2EA0-4E45-8B5A-49E57FCE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0D6-013E-490D-9364-AFA0CE5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317E-0582-4EBB-A42B-0DEB2B10E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128520" y="285840"/>
            <a:ext cx="9901080" cy="482904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2432160" y="4870440"/>
            <a:ext cx="64134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tients who did not respond to cortico-therapy received IVIg as second-line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3429000" y="0"/>
            <a:ext cx="5410080" cy="2971800"/>
          </a:xfrm>
          <a:prstGeom prst="rect">
            <a:avLst/>
          </a:prstGeom>
          <a:ln w="0">
            <a:noFill/>
          </a:ln>
        </p:spPr>
      </p:pic>
      <p:grpSp>
        <p:nvGrpSpPr>
          <p:cNvPr id="74" name="Down Arrow 4"/>
          <p:cNvGrpSpPr/>
          <p:nvPr/>
        </p:nvGrpSpPr>
        <p:grpSpPr>
          <a:xfrm>
            <a:off x="5657760" y="2481120"/>
            <a:ext cx="723960" cy="1097280"/>
            <a:chOff x="5657760" y="2481120"/>
            <a:chExt cx="723960" cy="1097280"/>
          </a:xfrm>
        </p:grpSpPr>
        <p:pic>
          <p:nvPicPr>
            <p:cNvPr id="75" name="Down Arrow 4" descr=""/>
            <p:cNvPicPr/>
            <p:nvPr/>
          </p:nvPicPr>
          <p:blipFill>
            <a:blip r:embed="rId2"/>
            <a:stretch/>
          </p:blipFill>
          <p:spPr>
            <a:xfrm>
              <a:off x="5657760" y="2481120"/>
              <a:ext cx="723960" cy="10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867280" y="251460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Chart 7" descr=""/>
          <p:cNvPicPr/>
          <p:nvPr/>
        </p:nvPicPr>
        <p:blipFill>
          <a:blip r:embed="rId3"/>
          <a:stretch/>
        </p:blipFill>
        <p:spPr>
          <a:xfrm>
            <a:off x="2895480" y="2793960"/>
            <a:ext cx="62485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19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VI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s well a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rticosteroid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have been shown to b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ffecti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reatmen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r CIDP.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rticosteroid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still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rst-line treatm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CIDP, due t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st-efficienc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lationship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lasma exchang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imilarly effecti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may b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ess tolerated.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atients who didn’t respon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initial corticosteroid therapy were assumed to b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witched to IVI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About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ird of patients did not respond to IVI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th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aso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r these still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main unclea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519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arly recogni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f CIDP patients can play an important role, because they are more likely to respond and, in some cases, go into re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is important to provid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reatment before axonal los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ccurs because recovery is much more difficult once axons are dama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rticotherap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main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rst-line treatm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ue to cost-efficinecy ba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ea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rom CIDP i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uncomm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neu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505320" y="990720"/>
            <a:ext cx="533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YOU !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ronic inflammatory demyelinating polyradiculoneuropathy (CIDP) is an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cquired immune-mediated inflammatory disord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at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argets the myelin sheath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t wrap the nerves of the peripheral nervous system. CIDP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s sometimes considere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b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chronic counterpart of Guillain-Barre Syndr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isorder is characterized primarily by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usually symmetrical,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eakne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  legs and arm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at increases for more than 2 month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general reduction or absence of deep tendon reflex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360" y="9144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iagnosi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based on  a combina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linica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isto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neurological examin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als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aboratory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eatur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ith exclusion of other disorders that may appear as CID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linical diagnosi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ymmetric onse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eakne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f four limbs,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oximal weakne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 more than one lim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lectrodiagnosis criteria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e: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bnormal distal latenc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bnormal motor conduction velocity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bnormal F-wave laten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SF examin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levated protein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10760" y="341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The objective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f this study was to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evaluate the response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corticotherapy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intravenous imunoglobuline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t the CIDP patients from the Neurological Depart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is a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retrospective observational study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ich included a total of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54 patients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f both sexes,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diagnosed with CIDP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d hospitalized at Neurological Department Targu Mures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between January 2007 and December 2010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sed on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clinical, electrophysiologic and laboratory aspects,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atients were divided into two groups: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CIDP with secondary axonal loss (CIDP -)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CIDP without axonal suffering (CIDP +)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The response to therapy was compared between the two group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tle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9633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3" descr=""/>
          <p:cNvPicPr/>
          <p:nvPr/>
        </p:nvPicPr>
        <p:blipFill>
          <a:blip r:embed="rId2"/>
          <a:stretch/>
        </p:blipFill>
        <p:spPr>
          <a:xfrm>
            <a:off x="2133720" y="3098880"/>
            <a:ext cx="4521240" cy="3759120"/>
          </a:xfrm>
          <a:prstGeom prst="rect">
            <a:avLst/>
          </a:prstGeom>
          <a:ln w="0">
            <a:noFill/>
          </a:ln>
        </p:spPr>
      </p:pic>
      <p:pic>
        <p:nvPicPr>
          <p:cNvPr id="51" name="Chart 4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4216320" cy="3454200"/>
          </a:xfrm>
          <a:prstGeom prst="rect">
            <a:avLst/>
          </a:prstGeom>
          <a:ln w="0">
            <a:noFill/>
          </a:ln>
        </p:spPr>
      </p:pic>
      <p:pic>
        <p:nvPicPr>
          <p:cNvPr id="52" name="Chart 5" descr=""/>
          <p:cNvPicPr/>
          <p:nvPr/>
        </p:nvPicPr>
        <p:blipFill>
          <a:blip r:embed="rId4"/>
          <a:stretch/>
        </p:blipFill>
        <p:spPr>
          <a:xfrm>
            <a:off x="-50760" y="939960"/>
            <a:ext cx="4064040" cy="3530520"/>
          </a:xfrm>
          <a:prstGeom prst="rect">
            <a:avLst/>
          </a:prstGeom>
          <a:ln w="0">
            <a:noFill/>
          </a:ln>
        </p:spPr>
      </p:pic>
      <p:pic>
        <p:nvPicPr>
          <p:cNvPr id="53" name="Up Arrow 6" descr=""/>
          <p:cNvPicPr/>
          <p:nvPr/>
        </p:nvPicPr>
        <p:blipFill>
          <a:blip r:embed="rId5"/>
          <a:stretch/>
        </p:blipFill>
        <p:spPr>
          <a:xfrm>
            <a:off x="4932360" y="3121200"/>
            <a:ext cx="13222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artition by age groups – depending on symptoms on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94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nical asp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tients  who had CSF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0" y="2514600"/>
            <a:ext cx="403848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Title 1"/>
          <p:cNvSpPr/>
          <p:nvPr/>
        </p:nvSpPr>
        <p:spPr>
          <a:xfrm>
            <a:off x="4876920" y="0"/>
            <a:ext cx="4038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tients with CSF protein&gt;400 mg/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3962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129528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26668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754380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3200400" y="0"/>
            <a:ext cx="55627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67" name="Up Arrow 6"/>
          <p:cNvGrpSpPr/>
          <p:nvPr/>
        </p:nvGrpSpPr>
        <p:grpSpPr>
          <a:xfrm>
            <a:off x="5425920" y="2401920"/>
            <a:ext cx="725760" cy="950760"/>
            <a:chOff x="5425920" y="2401920"/>
            <a:chExt cx="725760" cy="950760"/>
          </a:xfrm>
        </p:grpSpPr>
        <p:pic>
          <p:nvPicPr>
            <p:cNvPr id="68" name="Up Arrow 6" descr=""/>
            <p:cNvPicPr/>
            <p:nvPr/>
          </p:nvPicPr>
          <p:blipFill>
            <a:blip r:embed="rId2"/>
            <a:stretch/>
          </p:blipFill>
          <p:spPr>
            <a:xfrm>
              <a:off x="5425920" y="2401920"/>
              <a:ext cx="725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10800000">
              <a:off x="5638320" y="2438280"/>
              <a:ext cx="30492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Content Placeholder 2"/>
          <p:cNvSpPr/>
          <p:nvPr/>
        </p:nvSpPr>
        <p:spPr>
          <a:xfrm>
            <a:off x="0" y="304920"/>
            <a:ext cx="25909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tients  who received cortico-steroids as first line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d their response to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hart 8" descr=""/>
          <p:cNvPicPr/>
          <p:nvPr/>
        </p:nvPicPr>
        <p:blipFill>
          <a:blip r:embed="rId3"/>
          <a:stretch/>
        </p:blipFill>
        <p:spPr>
          <a:xfrm>
            <a:off x="2590920" y="2666880"/>
            <a:ext cx="655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4:04:44Z</dcterms:created>
  <dc:creator>ioana</dc:creator>
  <dc:description/>
  <dc:language>en-US</dc:language>
  <cp:lastModifiedBy>ioana</cp:lastModifiedBy>
  <dcterms:modified xsi:type="dcterms:W3CDTF">2011-04-04T19:15:00Z</dcterms:modified>
  <cp:revision>190</cp:revision>
  <dc:subject/>
  <dc:title>THE EXPERIENCE OF  TARGU MURES NEUROLOGY DEPARTMENT IN THE TREATMENT OF CHRON</dc:title>
</cp:coreProperties>
</file>